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5.png" ContentType="image/png"/>
  <Override PartName="/ppt/media/image13.wmf" ContentType="image/x-wmf"/>
  <Override PartName="/ppt/media/image29.jpeg" ContentType="image/jpeg"/>
  <Override PartName="/ppt/media/image4.jpeg" ContentType="image/jpeg"/>
  <Override PartName="/ppt/media/image8.wmf" ContentType="image/x-wmf"/>
  <Override PartName="/ppt/media/image9.wmf" ContentType="image/x-wmf"/>
  <Override PartName="/ppt/media/image12.wmf" ContentType="image/x-wmf"/>
  <Override PartName="/ppt/media/image30.jpeg" ContentType="image/jpeg"/>
  <Override PartName="/ppt/media/image6.png" ContentType="image/png"/>
  <Override PartName="/ppt/media/image14.wmf" ContentType="image/x-wmf"/>
  <Override PartName="/ppt/media/image31.png" ContentType="image/png"/>
  <Override PartName="/ppt/media/image1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CF1-267A-4F20-B0D3-41A19211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34FE-1BAA-4469-9B24-84E5F628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297-95CD-47B3-9815-1587CDF1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E1B-055B-49BC-9EEF-CF4EAC04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AFB4-A983-4093-91B7-6F8680C4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6D4A-E01A-4050-B31B-E0484689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243F-F4DD-47AA-BA0C-75347BF6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C1EB-0C8C-43AA-9B48-6D8ABAAB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FC1F-15A1-4E1A-959C-46DA3E9A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5D2F-AF8A-4C20-8557-A59FCFFD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1B04-3F94-46DE-BAD1-CB5F67AC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3E6-766A-4D56-867C-31CC73AF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54D6-A870-46C9-BF5E-CD1292AF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4E76-AF27-4273-9807-CEF16C64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273E-99B4-4144-A56C-384EC594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A11D-A237-47D2-A53A-968DE365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C84E-399D-419F-B9B9-CA579DC4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493-2CB1-4365-8569-BE1B40FB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A23-79C5-4936-8CBF-2CE748EE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FDF-2DBD-441F-B2FE-209CE171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2FEA-B67B-430A-89A0-BAD19C0B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2C1-62FE-4267-8BC2-8852BD24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CFF-4252-4DCE-AFBE-E433BADE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6E3A-2C4B-42F9-AD64-A8C59943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902D-5A75-4D5B-80A2-2853CBDA4308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b89aa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89aa8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cf6f9"/>
                    </a:gs>
                    <a:gs pos="100000">
                      <a:srgbClr val="f5cd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f7fa"/>
                    </a:gs>
                    <a:gs pos="100000">
                      <a:srgbClr val="f5cd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76BB-D924-469E-9881-E8E802110018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8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523880" y="685800"/>
            <a:ext cx="57150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CHAPTER 7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f8"/>
                </a:solidFill>
                <a:latin typeface="Times New Roman"/>
              </a:rPr>
              <a:t>Section 7Q1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42670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168800" cy="4800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4191120" y="2324160"/>
            <a:ext cx="495288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4f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b69c3"/>
                </a:solidFill>
                <a:latin typeface="Times New Roman"/>
              </a:rPr>
              <a:t>Stage 4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ate of obliv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elta brain waves 50%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f the ti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aries in lengt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leepwalk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ed wett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alking out lou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2096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352680" y="2743200"/>
            <a:ext cx="1067040" cy="24382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168800" cy="48006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419720" y="2286000"/>
            <a:ext cx="4724280" cy="43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M Slee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Rapid Eye Movement)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(</a:t>
            </a:r>
            <a:r>
              <a:rPr b="0" i="1" lang="en-US" sz="3200" spc="-1" strike="noStrike">
                <a:solidFill>
                  <a:srgbClr val="0064f8"/>
                </a:solidFill>
                <a:latin typeface="Times New Roman"/>
              </a:rPr>
              <a:t>dreaming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 cycles in and out after stage 4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rregular breathing/pul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drenal and sex hormones increa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wake” brain wav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ccur every 90 for 1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22096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123720" y="2590920"/>
            <a:ext cx="1143000" cy="3429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2096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800" y="2209680"/>
            <a:ext cx="8996400" cy="4606560"/>
            <a:chOff x="1800" y="2209680"/>
            <a:chExt cx="8996400" cy="4606560"/>
          </a:xfrm>
        </p:grpSpPr>
        <p:grpSp>
          <p:nvGrpSpPr>
            <p:cNvPr id="330" name=""/>
            <p:cNvGrpSpPr/>
            <p:nvPr/>
          </p:nvGrpSpPr>
          <p:grpSpPr>
            <a:xfrm>
              <a:off x="1484640" y="2284200"/>
              <a:ext cx="7141320" cy="3670560"/>
              <a:chOff x="1484640" y="2284200"/>
              <a:chExt cx="7141320" cy="367056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1484640" y="2284200"/>
                <a:ext cx="7140960" cy="3670560"/>
                <a:chOff x="1484640" y="2284200"/>
                <a:chExt cx="7140960" cy="36705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484640" y="2284200"/>
                  <a:ext cx="7140960" cy="3670560"/>
                </a:xfrm>
                <a:prstGeom prst="rect">
                  <a:avLst/>
                </a:prstGeom>
                <a:solidFill>
                  <a:srgbClr val="9cdcda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347560" y="2284200"/>
                  <a:ext cx="0" cy="3670560"/>
                </a:xfrm>
                <a:prstGeom prst="line">
                  <a:avLst/>
                </a:prstGeom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210840" y="2284200"/>
                  <a:ext cx="0" cy="3670560"/>
                </a:xfrm>
                <a:prstGeom prst="line">
                  <a:avLst/>
                </a:prstGeom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152600" y="2284200"/>
                  <a:ext cx="0" cy="3670560"/>
                </a:xfrm>
                <a:prstGeom prst="line">
                  <a:avLst/>
                </a:prstGeom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094360" y="2284200"/>
                  <a:ext cx="0" cy="3670560"/>
                </a:xfrm>
                <a:prstGeom prst="line">
                  <a:avLst/>
                </a:prstGeom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036120" y="2284200"/>
                  <a:ext cx="0" cy="3670560"/>
                </a:xfrm>
                <a:prstGeom prst="line">
                  <a:avLst/>
                </a:prstGeom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899400" y="2284200"/>
                  <a:ext cx="0" cy="3670560"/>
                </a:xfrm>
                <a:prstGeom prst="line">
                  <a:avLst/>
                </a:prstGeom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762680" y="2284200"/>
                  <a:ext cx="0" cy="3670560"/>
                </a:xfrm>
                <a:prstGeom prst="line">
                  <a:avLst/>
                </a:prstGeom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" name=""/>
              <p:cNvSpPr/>
              <p:nvPr/>
            </p:nvSpPr>
            <p:spPr>
              <a:xfrm>
                <a:off x="1484640" y="5280480"/>
                <a:ext cx="71413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484640" y="4531320"/>
                <a:ext cx="71413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484640" y="3782520"/>
                <a:ext cx="71413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484640" y="3033360"/>
                <a:ext cx="71413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1329120" y="592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85920" y="592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51000" y="592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92760" y="592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34520" y="592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77360" y="592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47120" y="592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15080" y="592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72160" y="5129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72160" y="4395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72160" y="3632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72160" y="286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00" y="2434320"/>
              <a:ext cx="90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Sleep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stag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84640" y="2658960"/>
              <a:ext cx="23544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20080" y="2658960"/>
              <a:ext cx="0" cy="37440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20080" y="3033360"/>
              <a:ext cx="15660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76680" y="3033360"/>
              <a:ext cx="0" cy="74916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76680" y="3782520"/>
              <a:ext cx="15660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33640" y="3782520"/>
              <a:ext cx="0" cy="74880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33640" y="4531680"/>
              <a:ext cx="15696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90960" y="4531680"/>
              <a:ext cx="0" cy="82404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504520" y="4531320"/>
              <a:ext cx="0" cy="82404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04520" y="4531680"/>
              <a:ext cx="15696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661840" y="3782520"/>
              <a:ext cx="0" cy="74880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61840" y="3782520"/>
              <a:ext cx="15660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818440" y="3033000"/>
              <a:ext cx="0" cy="74916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18440" y="3033360"/>
              <a:ext cx="1566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975400" y="3033360"/>
              <a:ext cx="0" cy="74916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75400" y="3782520"/>
              <a:ext cx="23544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10840" y="3782520"/>
              <a:ext cx="0" cy="74880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10840" y="4531680"/>
              <a:ext cx="15696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68160" y="4531680"/>
              <a:ext cx="0" cy="82404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190600" y="5355720"/>
              <a:ext cx="31356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68160" y="5355720"/>
              <a:ext cx="47088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839040" y="4531320"/>
              <a:ext cx="0" cy="82404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39040" y="4531680"/>
              <a:ext cx="15660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996000" y="3782520"/>
              <a:ext cx="0" cy="74880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96000" y="3782520"/>
              <a:ext cx="23544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231440" y="3033000"/>
              <a:ext cx="0" cy="74916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31440" y="3033360"/>
              <a:ext cx="3139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45360" y="3033360"/>
              <a:ext cx="0" cy="74916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45360" y="3782520"/>
              <a:ext cx="23544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80800" y="3782520"/>
              <a:ext cx="0" cy="74880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80800" y="4531680"/>
              <a:ext cx="62748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408640" y="3782520"/>
              <a:ext cx="0" cy="74880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08640" y="3782520"/>
              <a:ext cx="15660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565600" y="3108600"/>
              <a:ext cx="0" cy="67392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65600" y="3108600"/>
              <a:ext cx="47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36480" y="3108600"/>
              <a:ext cx="0" cy="67392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36480" y="3782520"/>
              <a:ext cx="86328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900120" y="3033000"/>
              <a:ext cx="0" cy="74916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00120" y="3033360"/>
              <a:ext cx="313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13680" y="3033360"/>
              <a:ext cx="0" cy="74916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13680" y="3782520"/>
              <a:ext cx="78480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7998480" y="3033000"/>
              <a:ext cx="0" cy="74916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98480" y="3033360"/>
              <a:ext cx="2354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8233920" y="2658960"/>
              <a:ext cx="0" cy="37440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33920" y="2658960"/>
              <a:ext cx="39204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14440" y="220968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Awake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34960" y="644796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Hours of sleep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42800" y="4906440"/>
              <a:ext cx="3139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58880" y="468432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Arial"/>
                </a:rPr>
                <a:t>REM SLEE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9144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85800" y="1523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22096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81160" y="2376360"/>
            <a:ext cx="8862840" cy="4483080"/>
            <a:chOff x="281160" y="2376360"/>
            <a:chExt cx="8862840" cy="4483080"/>
          </a:xfrm>
        </p:grpSpPr>
        <p:grpSp>
          <p:nvGrpSpPr>
            <p:cNvPr id="410" name=""/>
            <p:cNvGrpSpPr/>
            <p:nvPr/>
          </p:nvGrpSpPr>
          <p:grpSpPr>
            <a:xfrm>
              <a:off x="1881360" y="2528640"/>
              <a:ext cx="5486400" cy="3505320"/>
              <a:chOff x="1881360" y="2528640"/>
              <a:chExt cx="5486400" cy="3505320"/>
            </a:xfrm>
          </p:grpSpPr>
          <p:sp>
            <p:nvSpPr>
              <p:cNvPr id="411" name=""/>
              <p:cNvSpPr/>
              <p:nvPr/>
            </p:nvSpPr>
            <p:spPr>
              <a:xfrm>
                <a:off x="1881360" y="2528640"/>
                <a:ext cx="5486400" cy="3505320"/>
              </a:xfrm>
              <a:prstGeom prst="rect">
                <a:avLst/>
              </a:prstGeom>
              <a:solidFill>
                <a:srgbClr val="9cdcda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567160" y="2528640"/>
                <a:ext cx="0" cy="35053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252960" y="2528640"/>
                <a:ext cx="0" cy="35053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38760" y="2528640"/>
                <a:ext cx="0" cy="35053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624560" y="2528640"/>
                <a:ext cx="0" cy="35053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310360" y="2528640"/>
                <a:ext cx="0" cy="35053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996160" y="2528640"/>
                <a:ext cx="0" cy="35053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81960" y="2528640"/>
                <a:ext cx="0" cy="35053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881360" y="3062160"/>
                <a:ext cx="548640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881360" y="3671640"/>
                <a:ext cx="548640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881360" y="4281480"/>
                <a:ext cx="548640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881360" y="4890960"/>
                <a:ext cx="548640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81360" y="5500440"/>
                <a:ext cx="548640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3863880" y="649116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Hours of sleep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1160" y="2376360"/>
              <a:ext cx="1143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Minut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of 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Stage 4 and 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REM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97600" y="6033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96000" y="6033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88280" y="6048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74080" y="6048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59880" y="6033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680" y="6033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31480" y="6033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10800" y="6033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572120" y="5881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5400" y="4676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45400" y="41288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445400" y="3457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445400" y="290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572120" y="528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09960" y="3214440"/>
              <a:ext cx="685800" cy="1447920"/>
            </a:xfrm>
            <a:prstGeom prst="line">
              <a:avLst/>
            </a:prstGeom>
            <a:ln w="76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95760" y="4662360"/>
              <a:ext cx="761760" cy="228600"/>
            </a:xfrm>
            <a:prstGeom prst="line">
              <a:avLst/>
            </a:prstGeom>
            <a:ln w="76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57520" y="4890960"/>
              <a:ext cx="685800" cy="838080"/>
            </a:xfrm>
            <a:prstGeom prst="line">
              <a:avLst/>
            </a:prstGeom>
            <a:ln w="76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43320" y="5729040"/>
              <a:ext cx="1371600" cy="152640"/>
            </a:xfrm>
            <a:prstGeom prst="line">
              <a:avLst/>
            </a:prstGeom>
            <a:ln w="76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5614920" y="5805360"/>
              <a:ext cx="762120" cy="76320"/>
            </a:xfrm>
            <a:prstGeom prst="line">
              <a:avLst/>
            </a:prstGeom>
            <a:ln w="76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77040" y="5805360"/>
              <a:ext cx="762120" cy="152280"/>
            </a:xfrm>
            <a:prstGeom prst="line">
              <a:avLst/>
            </a:prstGeom>
            <a:ln w="76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033640" y="4814280"/>
              <a:ext cx="60948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643120" y="4738320"/>
              <a:ext cx="1067040" cy="75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3710160" y="4205160"/>
              <a:ext cx="38088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091040" y="3976200"/>
              <a:ext cx="838080" cy="228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4929120" y="3900240"/>
              <a:ext cx="609840" cy="76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5538960" y="3366720"/>
              <a:ext cx="685800" cy="533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224760" y="3214440"/>
              <a:ext cx="914400" cy="15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20040" y="2555640"/>
              <a:ext cx="1623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Decreasing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Stage 4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96360" y="3214440"/>
              <a:ext cx="1066680" cy="0"/>
            </a:xfrm>
            <a:prstGeom prst="line">
              <a:avLst/>
            </a:prstGeom>
            <a:ln w="76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56760" y="410832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Increasing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REM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72320" y="4738680"/>
              <a:ext cx="10670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9144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80880" y="2286000"/>
            <a:ext cx="8382240" cy="42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Sleep Disorders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Insomnia, Nightmares/Night Terrors, Sleep Walking, and Sleep Apne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eople need less sleep as they get old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7572"/>
                </a:solidFill>
                <a:latin typeface="Times New Roman"/>
              </a:rPr>
              <a:t>Babies need 16-18 hours of sleep dail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75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57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7572"/>
                </a:solidFill>
                <a:latin typeface="Times New Roman"/>
              </a:rPr>
              <a:t>Teens 10-11 hours, adults 8 hours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75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57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7572"/>
                </a:solidFill>
                <a:latin typeface="Times New Roman"/>
              </a:rPr>
              <a:t>Seniors citizens need 5-6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144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85800" y="12193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565800" cy="5029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4038480" y="2057400"/>
            <a:ext cx="4876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Arial Narrow"/>
              </a:rPr>
              <a:t>Effects of Sleep Los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ati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impaired concent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depressed immune sys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greater vulnerability to accid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9144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85800" y="1523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2057400"/>
            <a:ext cx="8763120" cy="48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reams get longer throughout the night with the last one the most likely to be remembere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reams have a purpose according to many psychologists but they disagree on what it i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75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7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7572"/>
                </a:solidFill>
                <a:latin typeface="Times New Roman"/>
              </a:rPr>
              <a:t>Sigmund Freud: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First to thoroughly study dreams believing they fulfilled hidden wish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64f8"/>
                </a:solidFill>
                <a:uFillTx/>
                <a:latin typeface="Times New Roman"/>
              </a:rPr>
              <a:t>Manifest Conten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of dreams comes from the re-living of the day’s events in your drea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64f8"/>
                </a:solidFill>
                <a:uFillTx/>
                <a:latin typeface="Times New Roman"/>
              </a:rPr>
              <a:t>Latent Conten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of dreams comes from repressed unconscious desires, often of a sexual natu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828800" y="762120"/>
            <a:ext cx="57150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CHAPTER 7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f8"/>
                </a:solidFill>
                <a:latin typeface="Times New Roman"/>
              </a:rPr>
              <a:t>Section 7Q2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Hypnosis …Hallucinations …Medi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457200" y="1752480"/>
            <a:ext cx="815328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64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f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4f8"/>
                </a:solidFill>
                <a:latin typeface="Times New Roman"/>
              </a:rPr>
              <a:t>Hypnosis: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Characterized by a narrow focus of attention and heightened suggestibil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ypnotic trance is not sleep, but rather a loss of interest in external distrac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ubject must be willing to cooperate, and will only do things they normally would d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7572"/>
                </a:solidFill>
                <a:latin typeface="Times New Roman"/>
              </a:rPr>
              <a:t>Dissociation Theory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s. </a:t>
            </a:r>
            <a:r>
              <a:rPr b="0" lang="en-US" sz="2800" spc="-1" strike="noStrike">
                <a:solidFill>
                  <a:srgbClr val="007572"/>
                </a:solidFill>
                <a:latin typeface="Times New Roman"/>
              </a:rPr>
              <a:t>Hidden Observer Theor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7Q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57200" y="1752480"/>
            <a:ext cx="8458200" cy="48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72"/>
                </a:solidFill>
                <a:latin typeface="Times New Roman"/>
              </a:rPr>
              <a:t>Dissociation Theory of Hypnosi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ate of subconscious control through focus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ertain thoughts, emotions, sensations, and/or memories are separated “out” by your min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an also be reached thru traumatic accidents/even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t Traumatic Stress Disor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issociative Identity Disorder (DID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ormerly Multiple Personality Disor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7Q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523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Meanings of Consciousness (Three view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2209680"/>
            <a:ext cx="800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2185920"/>
            <a:ext cx="89154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s a Sensory Awarenes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nsory awareness of our environ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s a Direct Inner Awarenes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ntal pictures and “feelings” (like love, anger, etc.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s a Sense of Self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ifferent viewpoints for different peop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57200" y="1752480"/>
            <a:ext cx="815328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72"/>
                </a:solidFill>
                <a:latin typeface="Times New Roman"/>
              </a:rPr>
              <a:t>Hidden Observer Theory of Hypnosi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hen under hypnotic control, awareness of the world around you isn’t “off” – just merely separa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erson may be “aware” of actions but not have any idea why the action is taking place or how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w those actions take place is through the “hidden observer”, who is like an autopilot for your min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144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7Q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962520" y="2133720"/>
            <a:ext cx="4876560" cy="32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64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4f8"/>
                </a:solidFill>
                <a:latin typeface="Times New Roman"/>
              </a:rPr>
              <a:t>Posthypnotic Suggestion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ypnotist gets subjects to do things after trance has ended … normally for treatment of a psychological condi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moking cessation, anxiety relief, weight loss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04920" y="5715000"/>
            <a:ext cx="2514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5562720"/>
            <a:ext cx="3733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Non-hypnotized persons can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also do thi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144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7Q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80880" y="1752480"/>
            <a:ext cx="792504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Perceptions that have no direct external cause and are not input from the sens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auses includ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ypnosis</a:t>
            </a:r>
            <a:r>
              <a:rPr b="0" lang="en-US" sz="2800" spc="-1" strike="noStrike">
                <a:solidFill>
                  <a:srgbClr val="ab69c3"/>
                </a:solidFill>
                <a:latin typeface="Times New Roman"/>
              </a:rPr>
              <a:t>, meditatio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some </a:t>
            </a:r>
            <a:r>
              <a:rPr b="0" lang="en-US" sz="2800" spc="-1" strike="noStrike">
                <a:solidFill>
                  <a:srgbClr val="3a9e48"/>
                </a:solidFill>
                <a:latin typeface="Times New Roman"/>
              </a:rPr>
              <a:t>drug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46596"/>
                </a:solidFill>
                <a:latin typeface="Times New Roman"/>
              </a:rPr>
              <a:t>addiction withdrawal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ebbe17"/>
                </a:solidFill>
                <a:latin typeface="Times New Roman"/>
              </a:rPr>
              <a:t>psychosi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4f8"/>
                </a:solidFill>
                <a:latin typeface="Times New Roman"/>
              </a:rPr>
              <a:t>Detect increase Dopamine levels in the brai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allucinations are very similar from one person to the next due to brain’s rea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82" name="bd00378_" descr=""/>
          <p:cNvPicPr/>
          <p:nvPr/>
        </p:nvPicPr>
        <p:blipFill>
          <a:blip r:embed="rId1"/>
          <a:stretch/>
        </p:blipFill>
        <p:spPr>
          <a:xfrm>
            <a:off x="0" y="5337000"/>
            <a:ext cx="3733920" cy="1521000"/>
          </a:xfrm>
          <a:prstGeom prst="rect">
            <a:avLst/>
          </a:prstGeom>
          <a:ln w="0">
            <a:noFill/>
          </a:ln>
        </p:spPr>
      </p:pic>
      <p:pic>
        <p:nvPicPr>
          <p:cNvPr id="483" name="bd00363_" descr=""/>
          <p:cNvPicPr/>
          <p:nvPr/>
        </p:nvPicPr>
        <p:blipFill>
          <a:blip r:embed="rId2"/>
          <a:stretch/>
        </p:blipFill>
        <p:spPr>
          <a:xfrm>
            <a:off x="3733920" y="5334120"/>
            <a:ext cx="3200400" cy="1523880"/>
          </a:xfrm>
          <a:prstGeom prst="rect">
            <a:avLst/>
          </a:prstGeom>
          <a:ln w="0">
            <a:noFill/>
          </a:ln>
        </p:spPr>
      </p:pic>
      <p:pic>
        <p:nvPicPr>
          <p:cNvPr id="484" name="bd00369_" descr=""/>
          <p:cNvPicPr/>
          <p:nvPr/>
        </p:nvPicPr>
        <p:blipFill>
          <a:blip r:embed="rId3"/>
          <a:stretch/>
        </p:blipFill>
        <p:spPr>
          <a:xfrm>
            <a:off x="6781680" y="5334120"/>
            <a:ext cx="2362320" cy="152388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609480" y="1676520"/>
            <a:ext cx="246708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Hallucinations</a:t>
            </a:r>
            <a:endParaRPr b="0" i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86" name="bd06651_" descr=""/>
          <p:cNvPicPr/>
          <p:nvPr/>
        </p:nvPicPr>
        <p:blipFill>
          <a:blip r:embed="rId4"/>
          <a:stretch/>
        </p:blipFill>
        <p:spPr>
          <a:xfrm>
            <a:off x="7772400" y="1752480"/>
            <a:ext cx="1371600" cy="3581640"/>
          </a:xfrm>
          <a:prstGeom prst="rect">
            <a:avLst/>
          </a:prstGeom>
          <a:ln w="0">
            <a:noFill/>
          </a:ln>
        </p:spPr>
      </p:pic>
      <p:pic>
        <p:nvPicPr>
          <p:cNvPr id="487" name="bd05817_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9144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7Q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28600" y="1676520"/>
            <a:ext cx="5410080" cy="49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ensory Deprivation: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Severely limiting sensory inputs to a person’s brai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eople quickly become irritable, restless, upset and some begin to hallucina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iofeedback: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Learning to voluntarily control autonomic nervous system processes with the help of feedbac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cientists used to believe heart rate, blood pressure, sweating etc. were involunta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90" name="bd05199_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2819520" cy="2487600"/>
          </a:xfrm>
          <a:prstGeom prst="rect">
            <a:avLst/>
          </a:prstGeom>
          <a:ln w="0">
            <a:noFill/>
          </a:ln>
        </p:spPr>
      </p:pic>
      <p:pic>
        <p:nvPicPr>
          <p:cNvPr id="491" name="bd00072_" descr=""/>
          <p:cNvPicPr/>
          <p:nvPr/>
        </p:nvPicPr>
        <p:blipFill>
          <a:blip r:embed="rId2"/>
          <a:stretch/>
        </p:blipFill>
        <p:spPr>
          <a:xfrm>
            <a:off x="5791320" y="4267080"/>
            <a:ext cx="2968560" cy="25909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9144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7Q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1828800"/>
            <a:ext cx="64008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ditation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Focusing attention with the goal of clearing the mind to gain “inner peace” (self-hypnosi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64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4f8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64f8"/>
                </a:solidFill>
                <a:latin typeface="Times New Roman"/>
              </a:rPr>
              <a:t>Mantra</a:t>
            </a: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Special word that is repeated over and over causing deep relaxation respon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75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57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7572"/>
                </a:solidFill>
                <a:latin typeface="Times New Roman"/>
              </a:rPr>
              <a:t>The Four Elements of Meditation; </a:t>
            </a:r>
            <a:r>
              <a:rPr b="0" lang="en-US" sz="3200" spc="-1" strike="noStrike">
                <a:solidFill>
                  <a:srgbClr val="3a9e48"/>
                </a:solidFill>
                <a:latin typeface="Times New Roman"/>
              </a:rPr>
              <a:t>Quiet, Comfortable, a “Mental Device” (Mantra), &amp; Passive Attitu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94" name="bd06528_" descr=""/>
          <p:cNvPicPr/>
          <p:nvPr/>
        </p:nvPicPr>
        <p:blipFill>
          <a:blip r:embed="rId1"/>
          <a:stretch/>
        </p:blipFill>
        <p:spPr>
          <a:xfrm>
            <a:off x="6499080" y="2362320"/>
            <a:ext cx="2595600" cy="30477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9144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7Q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828800" y="762120"/>
            <a:ext cx="57150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CHAPTER 7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f8"/>
                </a:solidFill>
                <a:latin typeface="Times New Roman"/>
              </a:rPr>
              <a:t>Section 7Q3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Psychoactive Drug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28600" y="1676520"/>
            <a:ext cx="85345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sychoactive Drugs: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nteract with the Central Nervous System to alter mood, perception, and behavio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anges from caffeine to marijuana, alcohol, amphetamines, LSD, Cocai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99" name="bd06493_" descr=""/>
          <p:cNvPicPr/>
          <p:nvPr/>
        </p:nvPicPr>
        <p:blipFill>
          <a:blip r:embed="rId1"/>
          <a:stretch/>
        </p:blipFill>
        <p:spPr>
          <a:xfrm>
            <a:off x="2286000" y="4606920"/>
            <a:ext cx="4572000" cy="2232000"/>
          </a:xfrm>
          <a:prstGeom prst="rect">
            <a:avLst/>
          </a:prstGeom>
          <a:ln w="0">
            <a:noFill/>
          </a:ln>
        </p:spPr>
      </p:pic>
      <p:pic>
        <p:nvPicPr>
          <p:cNvPr id="500" name="bd05123_" descr=""/>
          <p:cNvPicPr/>
          <p:nvPr/>
        </p:nvPicPr>
        <p:blipFill>
          <a:blip r:embed="rId2"/>
          <a:stretch/>
        </p:blipFill>
        <p:spPr>
          <a:xfrm>
            <a:off x="0" y="4876920"/>
            <a:ext cx="1986120" cy="1704960"/>
          </a:xfrm>
          <a:prstGeom prst="rect">
            <a:avLst/>
          </a:prstGeom>
          <a:ln w="0">
            <a:noFill/>
          </a:ln>
        </p:spPr>
      </p:pic>
      <p:pic>
        <p:nvPicPr>
          <p:cNvPr id="501" name="bd00026_" descr=""/>
          <p:cNvPicPr/>
          <p:nvPr/>
        </p:nvPicPr>
        <p:blipFill>
          <a:blip r:embed="rId3"/>
          <a:stretch/>
        </p:blipFill>
        <p:spPr>
          <a:xfrm>
            <a:off x="7162920" y="4724280"/>
            <a:ext cx="1981080" cy="184176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29528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04920" y="1828800"/>
            <a:ext cx="830556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pressants: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nduce sleep, relaxation, impaired judgment/coordination, anxiety relief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ypes include Barbiturates, Quaaludes, Valium/Librium, Alcoho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04" name="bd00040_" descr=""/>
          <p:cNvPicPr/>
          <p:nvPr/>
        </p:nvPicPr>
        <p:blipFill>
          <a:blip r:embed="rId1"/>
          <a:stretch/>
        </p:blipFill>
        <p:spPr>
          <a:xfrm>
            <a:off x="533520" y="3992400"/>
            <a:ext cx="2057400" cy="1997280"/>
          </a:xfrm>
          <a:prstGeom prst="rect">
            <a:avLst/>
          </a:prstGeom>
          <a:ln w="0">
            <a:noFill/>
          </a:ln>
        </p:spPr>
      </p:pic>
      <p:pic>
        <p:nvPicPr>
          <p:cNvPr id="505" name="an02346_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427120" cy="223524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129528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04920" y="1676520"/>
            <a:ext cx="86868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iates: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nduce sedation, pain relief, apathy, impaired intellect/coordination, nause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ypes include narcotics such as opium, heroin, morphine, codeine, Demero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08" name="HM00163_" descr=""/>
          <p:cNvPicPr/>
          <p:nvPr/>
        </p:nvPicPr>
        <p:blipFill>
          <a:blip r:embed="rId1"/>
          <a:stretch/>
        </p:blipFill>
        <p:spPr>
          <a:xfrm>
            <a:off x="3124080" y="3735360"/>
            <a:ext cx="4419720" cy="312264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129528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0880" y="1752480"/>
            <a:ext cx="830592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imulants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Induce alertness, elevated mood, wakefulness, appetite loss, high heart r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ypes include amphetamines, Dexedrine, Ritalin, Cocaine, Caffeine, Nicoti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11" name="bd00039_" descr=""/>
          <p:cNvPicPr/>
          <p:nvPr/>
        </p:nvPicPr>
        <p:blipFill>
          <a:blip r:embed="rId1"/>
          <a:stretch/>
        </p:blipFill>
        <p:spPr>
          <a:xfrm>
            <a:off x="3733920" y="4038480"/>
            <a:ext cx="1984320" cy="2073240"/>
          </a:xfrm>
          <a:prstGeom prst="rect">
            <a:avLst/>
          </a:prstGeom>
          <a:ln w="0">
            <a:noFill/>
          </a:ln>
        </p:spPr>
      </p:pic>
      <p:pic>
        <p:nvPicPr>
          <p:cNvPr id="512" name="bd05203_" descr=""/>
          <p:cNvPicPr/>
          <p:nvPr/>
        </p:nvPicPr>
        <p:blipFill>
          <a:blip r:embed="rId2"/>
          <a:stretch/>
        </p:blipFill>
        <p:spPr>
          <a:xfrm>
            <a:off x="228600" y="4170240"/>
            <a:ext cx="2514600" cy="1916280"/>
          </a:xfrm>
          <a:prstGeom prst="rect">
            <a:avLst/>
          </a:prstGeom>
          <a:ln w="0">
            <a:noFill/>
          </a:ln>
        </p:spPr>
      </p:pic>
      <p:pic>
        <p:nvPicPr>
          <p:cNvPr id="513" name="bd07151_" descr=""/>
          <p:cNvPicPr/>
          <p:nvPr/>
        </p:nvPicPr>
        <p:blipFill>
          <a:blip r:embed="rId3"/>
          <a:stretch/>
        </p:blipFill>
        <p:spPr>
          <a:xfrm>
            <a:off x="7442280" y="3505320"/>
            <a:ext cx="1479600" cy="266364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29528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562720" y="9907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8"/>
                </a:solidFill>
                <a:latin typeface="Times New Roman"/>
              </a:rPr>
              <a:t>Levels of (Waking) Consciousnes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2209680"/>
            <a:ext cx="800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762120"/>
            <a:ext cx="891540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onscious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erceptions and Though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econscious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mories and Stored Knowledg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Unconscious (or Subconscious)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lfish needs, Immoral urges, Fears, Violent motives, Irrational wishes, Shameful experiences, unacceptable desir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onconscious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iological functions (heart rate, growth, breathing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04920" y="1752480"/>
            <a:ext cx="861048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sychedelics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Induce distorted thoughts and perceptions, hallucinations anxiety, mood swings, violent behavio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ypes include LSD, Mescaline, PCP, Psilocybin, Marijuana, Hashis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16" name="bd06787_" descr=""/>
          <p:cNvPicPr/>
          <p:nvPr/>
        </p:nvPicPr>
        <p:blipFill>
          <a:blip r:embed="rId1"/>
          <a:stretch/>
        </p:blipFill>
        <p:spPr>
          <a:xfrm>
            <a:off x="3048120" y="4419720"/>
            <a:ext cx="2590560" cy="2058840"/>
          </a:xfrm>
          <a:prstGeom prst="rect">
            <a:avLst/>
          </a:prstGeom>
          <a:ln w="0">
            <a:noFill/>
          </a:ln>
        </p:spPr>
      </p:pic>
      <p:pic>
        <p:nvPicPr>
          <p:cNvPr id="517" name="bd06651_" descr=""/>
          <p:cNvPicPr/>
          <p:nvPr/>
        </p:nvPicPr>
        <p:blipFill>
          <a:blip r:embed="rId2"/>
          <a:stretch/>
        </p:blipFill>
        <p:spPr>
          <a:xfrm>
            <a:off x="380880" y="4419720"/>
            <a:ext cx="2057400" cy="2044440"/>
          </a:xfrm>
          <a:prstGeom prst="rect">
            <a:avLst/>
          </a:prstGeom>
          <a:ln w="0">
            <a:noFill/>
          </a:ln>
        </p:spPr>
      </p:pic>
      <p:pic>
        <p:nvPicPr>
          <p:cNvPr id="518" name="EN00378_" descr=""/>
          <p:cNvPicPr/>
          <p:nvPr/>
        </p:nvPicPr>
        <p:blipFill>
          <a:blip r:embed="rId3"/>
          <a:stretch/>
        </p:blipFill>
        <p:spPr>
          <a:xfrm>
            <a:off x="6323040" y="4267080"/>
            <a:ext cx="2820960" cy="217656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129528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04920" y="19051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" y="1828800"/>
            <a:ext cx="82296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tidepressants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Induce relief of depression, mood elevation, stimul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ypes include Lithium, Dibenzapines, MAO inhibit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22" name="bd06547_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2514600" cy="2384280"/>
          </a:xfrm>
          <a:prstGeom prst="rect">
            <a:avLst/>
          </a:prstGeom>
          <a:ln w="0">
            <a:noFill/>
          </a:ln>
        </p:spPr>
      </p:pic>
      <p:pic>
        <p:nvPicPr>
          <p:cNvPr id="523" name="bd06221_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476440" cy="2490840"/>
          </a:xfrm>
          <a:prstGeom prst="rect">
            <a:avLst/>
          </a:prstGeom>
          <a:ln w="0">
            <a:noFill/>
          </a:ln>
        </p:spPr>
      </p:pic>
      <p:pic>
        <p:nvPicPr>
          <p:cNvPr id="524" name="bd06100_" descr=""/>
          <p:cNvPicPr/>
          <p:nvPr/>
        </p:nvPicPr>
        <p:blipFill>
          <a:blip r:embed="rId3"/>
          <a:stretch/>
        </p:blipFill>
        <p:spPr>
          <a:xfrm>
            <a:off x="3809880" y="4191120"/>
            <a:ext cx="1695600" cy="24397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129528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527" name=""/>
          <p:cNvSpPr/>
          <p:nvPr/>
        </p:nvSpPr>
        <p:spPr>
          <a:xfrm>
            <a:off x="304920" y="19051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" y="1828800"/>
            <a:ext cx="82296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halants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Cause Euphoria, Shortness of Breath, Nausea, Headache, Dizziness, faint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ypes include: Hydrocarbons, nitrous oxide, chlorohydrocarb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29" name="bd06049_" descr=""/>
          <p:cNvPicPr/>
          <p:nvPr/>
        </p:nvPicPr>
        <p:blipFill>
          <a:blip r:embed="rId1"/>
          <a:stretch/>
        </p:blipFill>
        <p:spPr>
          <a:xfrm>
            <a:off x="5867280" y="4495680"/>
            <a:ext cx="1839960" cy="2154240"/>
          </a:xfrm>
          <a:prstGeom prst="rect">
            <a:avLst/>
          </a:prstGeom>
          <a:ln w="0">
            <a:noFill/>
          </a:ln>
        </p:spPr>
      </p:pic>
      <p:pic>
        <p:nvPicPr>
          <p:cNvPr id="530" name="fd01051_" descr=""/>
          <p:cNvPicPr/>
          <p:nvPr/>
        </p:nvPicPr>
        <p:blipFill>
          <a:blip r:embed="rId2"/>
          <a:stretch/>
        </p:blipFill>
        <p:spPr>
          <a:xfrm>
            <a:off x="1219320" y="4233960"/>
            <a:ext cx="274320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1676520"/>
            <a:ext cx="8915400" cy="24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24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64f8"/>
                </a:solidFill>
                <a:uFillTx/>
                <a:latin typeface="Times New Roman"/>
              </a:rPr>
              <a:t>All Psychoactive Drug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have Long-Term negative effect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x: addiction, withdrawal, paranoia, brain damage, DEATH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he Short Term effects of psychoactive drugs last from     1-12 hours depending on the drug use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64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f8"/>
                </a:solidFill>
                <a:latin typeface="Times New Roman"/>
              </a:rPr>
              <a:t>Alcohol: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Most used/abused mind altering substance in U.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3581280" y="3890880"/>
            <a:ext cx="5257800" cy="296712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04920" y="44197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9e48"/>
                </a:solidFill>
                <a:latin typeface="Times New Roman"/>
              </a:rPr>
              <a:t>Trends in Drug Us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"/>
          <p:cNvGrpSpPr/>
          <p:nvPr/>
        </p:nvGrpSpPr>
        <p:grpSpPr>
          <a:xfrm>
            <a:off x="2520" y="2209680"/>
            <a:ext cx="4986360" cy="4318560"/>
            <a:chOff x="2520" y="2209680"/>
            <a:chExt cx="4986360" cy="4318560"/>
          </a:xfrm>
        </p:grpSpPr>
        <p:sp>
          <p:nvSpPr>
            <p:cNvPr id="536" name=""/>
            <p:cNvSpPr/>
            <p:nvPr/>
          </p:nvSpPr>
          <p:spPr>
            <a:xfrm>
              <a:off x="1154880" y="2209680"/>
              <a:ext cx="353232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154880" y="2209680"/>
              <a:ext cx="0" cy="36208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659240" y="6027840"/>
              <a:ext cx="259524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938520" y="2669760"/>
              <a:ext cx="0" cy="276516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25920" y="58827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Smal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56640" y="586908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Large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81760" y="615996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Drug dose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4040" y="5423400"/>
              <a:ext cx="72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Little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effec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7800" y="2209680"/>
              <a:ext cx="72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Big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effec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520" y="2979000"/>
              <a:ext cx="78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Drug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effect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44080" y="2921040"/>
              <a:ext cx="1520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Response to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first exposure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52680" y="3131280"/>
              <a:ext cx="432360" cy="1314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42880" y="2999520"/>
              <a:ext cx="1874520" cy="2830680"/>
            </a:xfrm>
            <a:custGeom>
              <a:avLst/>
              <a:gdLst/>
              <a:ahLst/>
              <a:rect l="l" t="t" r="r" b="b"/>
              <a:pathLst>
                <a:path w="1200" h="1968">
                  <a:moveTo>
                    <a:pt x="0" y="1968"/>
                  </a:moveTo>
                  <a:cubicBezTo>
                    <a:pt x="144" y="1580"/>
                    <a:pt x="288" y="1192"/>
                    <a:pt x="384" y="960"/>
                  </a:cubicBezTo>
                  <a:cubicBezTo>
                    <a:pt x="480" y="728"/>
                    <a:pt x="496" y="696"/>
                    <a:pt x="576" y="576"/>
                  </a:cubicBezTo>
                  <a:cubicBezTo>
                    <a:pt x="656" y="456"/>
                    <a:pt x="760" y="336"/>
                    <a:pt x="864" y="240"/>
                  </a:cubicBezTo>
                  <a:cubicBezTo>
                    <a:pt x="968" y="144"/>
                    <a:pt x="1084" y="72"/>
                    <a:pt x="1200" y="0"/>
                  </a:cubicBezTo>
                </a:path>
              </a:pathLst>
            </a:custGeom>
            <a:noFill/>
            <a:ln w="76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090240" y="4236480"/>
              <a:ext cx="16894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After repeate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exposure, more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drug is neede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to produce 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same effec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85040" y="4250160"/>
              <a:ext cx="288000" cy="13176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163960" y="3131280"/>
              <a:ext cx="1946520" cy="2699280"/>
            </a:xfrm>
            <a:custGeom>
              <a:avLst/>
              <a:gdLst/>
              <a:ahLst/>
              <a:rect l="l" t="t" r="r" b="b"/>
              <a:pathLst>
                <a:path w="1200" h="1968">
                  <a:moveTo>
                    <a:pt x="0" y="1968"/>
                  </a:moveTo>
                  <a:cubicBezTo>
                    <a:pt x="144" y="1580"/>
                    <a:pt x="288" y="1192"/>
                    <a:pt x="384" y="960"/>
                  </a:cubicBezTo>
                  <a:cubicBezTo>
                    <a:pt x="480" y="728"/>
                    <a:pt x="496" y="696"/>
                    <a:pt x="576" y="576"/>
                  </a:cubicBezTo>
                  <a:cubicBezTo>
                    <a:pt x="656" y="456"/>
                    <a:pt x="760" y="336"/>
                    <a:pt x="864" y="240"/>
                  </a:cubicBezTo>
                  <a:cubicBezTo>
                    <a:pt x="968" y="144"/>
                    <a:pt x="1084" y="72"/>
                    <a:pt x="1200" y="0"/>
                  </a:cubicBezTo>
                </a:path>
              </a:pathLst>
            </a:custGeom>
            <a:noFill/>
            <a:ln w="76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54880" y="5830560"/>
              <a:ext cx="353232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5029200" y="2209680"/>
            <a:ext cx="3886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Toler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iminishing effect with regular us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Withdraw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iscomfort and distress that follow discontinued use</a:t>
            </a: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29528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5029200" y="2209680"/>
            <a:ext cx="3886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9528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1828800"/>
            <a:ext cx="914400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4f8"/>
                </a:solidFill>
                <a:uFillTx/>
                <a:latin typeface="Times New Roman"/>
              </a:rPr>
              <a:t>Drug</a:t>
            </a: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64f8"/>
                </a:solidFill>
                <a:uFillTx/>
                <a:latin typeface="Times New Roman"/>
              </a:rPr>
              <a:t>Tolerance Potential</a:t>
            </a: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64f8"/>
                </a:solidFill>
                <a:uFillTx/>
                <a:latin typeface="Times New Roman"/>
              </a:rPr>
              <a:t>Addiction Potent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076"/>
                </a:solidFill>
                <a:latin typeface="Times New Roman"/>
              </a:rPr>
              <a:t>(Leads to higher dosage)</a:t>
            </a:r>
            <a:r>
              <a:rPr b="0" lang="en-US" sz="2400" spc="-1" strike="noStrike">
                <a:solidFill>
                  <a:srgbClr val="00307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a9e48"/>
                </a:solidFill>
                <a:latin typeface="Times New Roman"/>
              </a:rPr>
              <a:t>Psychological</a:t>
            </a:r>
            <a:r>
              <a:rPr b="0" lang="en-US" sz="2400" spc="-1" strike="noStrike">
                <a:solidFill>
                  <a:srgbClr val="00307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076"/>
                </a:solidFill>
                <a:latin typeface="Times New Roman"/>
              </a:rPr>
              <a:t>      Physic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ressant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076"/>
                </a:solidFill>
                <a:latin typeface="Times New Roman"/>
              </a:rPr>
              <a:t>Ye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a9e48"/>
                </a:solidFill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piate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076"/>
                </a:solidFill>
                <a:latin typeface="Times New Roman"/>
              </a:rPr>
              <a:t>Ye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a9e48"/>
                </a:solidFill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imulant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076"/>
                </a:solidFill>
                <a:latin typeface="Times New Roman"/>
              </a:rPr>
              <a:t>Ye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a9e48"/>
                </a:solidFill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sychedelic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076"/>
                </a:solidFill>
                <a:latin typeface="Times New Roman"/>
              </a:rPr>
              <a:t>Ye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a9e48"/>
                </a:solidFill>
                <a:latin typeface="Times New Roman"/>
              </a:rPr>
              <a:t>Low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tidepressant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076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a9e48"/>
                </a:solidFill>
                <a:latin typeface="Times New Roman"/>
              </a:rPr>
              <a:t>Low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halant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076"/>
                </a:solidFill>
                <a:latin typeface="Times New Roman"/>
              </a:rPr>
              <a:t>Unknown”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a9e48"/>
                </a:solidFill>
                <a:latin typeface="Times New Roman"/>
              </a:rPr>
              <a:t>Moderate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“Unknown”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29528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289400" cy="48769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4724280" y="2057400"/>
            <a:ext cx="419112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 Narrow"/>
              </a:rPr>
              <a:t>Near-Death Experi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an altered state of consciousness reported after a close brush with deat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often similar to drug-induced (LSD) hallucin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9528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562720" y="9907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8"/>
                </a:solidFill>
                <a:latin typeface="Times New Roman"/>
              </a:rPr>
              <a:t>Levels of (Altered) Consciousnes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2209680"/>
            <a:ext cx="800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544760"/>
            <a:ext cx="48765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leep and Drea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edit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iofeedbac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ypnosi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epressan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imulan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allucinoge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85800" y="1523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0" y="2286000"/>
            <a:ext cx="9144000" cy="4572000"/>
            <a:chOff x="0" y="2286000"/>
            <a:chExt cx="9144000" cy="4572000"/>
          </a:xfrm>
        </p:grpSpPr>
        <p:pic>
          <p:nvPicPr>
            <p:cNvPr id="289" name="" descr=""/>
            <p:cNvPicPr/>
            <p:nvPr/>
          </p:nvPicPr>
          <p:blipFill>
            <a:blip r:embed="rId1"/>
            <a:stretch/>
          </p:blipFill>
          <p:spPr>
            <a:xfrm>
              <a:off x="0" y="2286000"/>
              <a:ext cx="9144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0" y="4572000"/>
              <a:ext cx="2666880" cy="2286000"/>
            </a:xfrm>
            <a:prstGeom prst="rect">
              <a:avLst/>
            </a:prstGeom>
            <a:solidFill>
              <a:srgbClr val="9cd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0" y="48769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Measuring sleep activ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144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2209680"/>
            <a:ext cx="800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1905120"/>
            <a:ext cx="89154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ere are 4 stages of quiet sleep and 1 stage of active slee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pprox. </a:t>
            </a: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75%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of sleep time is spent in </a:t>
            </a: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tages 1 thru 4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pproximately </a:t>
            </a: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25%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of sleep time is spent </a:t>
            </a: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lectroencephalograph (EEG)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and other devices are used to measure sleep activ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168800" cy="4800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191120" y="2235240"/>
            <a:ext cx="495288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a9e48"/>
                </a:solidFill>
                <a:latin typeface="Times New Roman"/>
              </a:rPr>
              <a:t>Stag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ulse slow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reathing uneve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uscles relax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witch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yes roll / visual imag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nsation of “drifting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Lasts about 10 minu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22096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285640" y="2514600"/>
            <a:ext cx="1981080" cy="685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85800" y="13255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168800" cy="48006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191120" y="2324160"/>
            <a:ext cx="49528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3465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659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46596"/>
                </a:solidFill>
                <a:latin typeface="Times New Roman"/>
              </a:rPr>
              <a:t>Stage 2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lower brain wav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yes move slowly from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de-to-si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Lasts about 30 minu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22096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819160" y="2590920"/>
            <a:ext cx="1447560" cy="1143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44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168800" cy="48006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191120" y="2324160"/>
            <a:ext cx="4952880" cy="22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4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bbe17"/>
                </a:solidFill>
                <a:latin typeface="Times New Roman"/>
              </a:rPr>
              <a:t>Stage 3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eeper slee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Large delta brain waves every few secon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aries in lengt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22096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352680" y="2590920"/>
            <a:ext cx="914400" cy="19047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9:48:30Z</dcterms:created>
  <dc:creator>Martel</dc:creator>
  <dc:description/>
  <dc:language>en-US</dc:language>
  <cp:lastModifiedBy>Authorized User</cp:lastModifiedBy>
  <dcterms:modified xsi:type="dcterms:W3CDTF">2007-02-08T21:01:04Z</dcterms:modified>
  <cp:revision>175</cp:revision>
  <dc:subject/>
  <dc:title>No Slide Title</dc:title>
</cp:coreProperties>
</file>